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7ADE-D0CA-403F-A2B9-A9B5EDCFC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4918-6512-41C5-BA3D-4C8E7B5AA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4830-919D-408F-87B0-C298CE2EB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9D15-E290-4563-8388-A539B16DB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B3FE-8E69-41B5-92DD-623860158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1C3A-0B60-4B3C-82D4-71E0B60A7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94E3-6C93-4F47-AEF5-9AE76DC79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7DDA-095A-4A8D-A5AE-B7B7C5C42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703E-0CD0-4A3B-A314-7B811DEBB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862F-BD4A-4462-8616-544D1DAAA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5AC3-4541-4E13-93D7-FF0A50560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CDE7-B944-435B-A356-B062E6B4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0EA85-0A2B-4464-B2FE-2B07B78163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sinfo.state.gov/products/pubs/marshallplan/" TargetMode="External"/><Relationship Id="rId3" Type="http://schemas.openxmlformats.org/officeDocument/2006/relationships/hyperlink" Target="http://www.cnn.com/SPECIALS/cold.war/episodes/20/spotlight/" TargetMode="External"/><Relationship Id="rId4" Type="http://schemas.openxmlformats.org/officeDocument/2006/relationships/hyperlink" Target="http://www.vietnampix.com/intro2.htm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The Cold War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san Flo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Berlin W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1752480"/>
            <a:ext cx="3886200" cy="21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1961, the Berlin Wall was built to isolate West Berlin from Soviet territory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wall also separated West Berlin from East German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Wall was built because of economic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3881520"/>
            <a:ext cx="36576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Wall was built because of politic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West interfered with the East. (USS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ducation was free in the East but cost money in the West.  Students would go to school in the East and then move to the West to work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48320" y="4572000"/>
            <a:ext cx="388620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vember 9, 1989 East Berliners flocked to the Wall and demanded to go to the We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uards couldn’t stop them and the Berliners tore the Wall dow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00600" y="3657600"/>
            <a:ext cx="373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ttp://berlin-wall.org/bilder/b_mur1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334120" y="1295280"/>
            <a:ext cx="2786040" cy="21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ylor, David.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 Cold War. Heinemann Library, Chicago, IL, 200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Marshall Plan,”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usinfo.state.gov/products/pubs/marshallpl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NN Olympic Boycotts,”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cnn.com/SPECIALS/cold.war/episodes/20/spotligh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Vietnam War,”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vietnampix.com/intro2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Sputnik to NDEA,” http://www.gtexts.com/college/papers/j3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ld War International History Project,” http://www.wilsoncenter.org/index.cfm?fuseaction=topics.home&amp;topic_id=14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y the Berlin Wall was Built,” http://www.berlinermauer.se/BerlinWall/bygg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Berlin Wall Official Homepage,” http://www.berlinermauer.se/BerlinWall/bygg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ld War Museum,” http://www.coldwar.org/index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was the Cold Wa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 was the time between 1945 and 1989 when the United States and the Soviet Union and their allies were involved in a conflict known as “The Cold War.”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times there were confrontations between the two countries, but traditional weapons were never u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efore the Cold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uropean countries were destroyed by WW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1948, President Truman signed the act that became the Marshall Pl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was designed to help rebuild Eur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d for US Secretary of State George C. Marshall who came up with the idea to help the countries that had been destroyed by w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shall believed that people who were not hungry and traded with each other would not be as likely to go to w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orts and the Olymp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1752480"/>
            <a:ext cx="38862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80 Olympics boycotted by United States and many allies (60 tea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84 Olympics boycotted by Russia and many of their all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105520" y="4876920"/>
            <a:ext cx="3886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etition carried into music competitions and even into chess matc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781680" y="1371600"/>
            <a:ext cx="1474920" cy="2185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943600" y="3733920"/>
            <a:ext cx="289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ttp://2008.cns.com.cn/new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60020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dia Comaneci, Romanian gymn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85800" y="3809880"/>
            <a:ext cx="1465200" cy="1828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438280" y="42670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chael Jord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5867280"/>
            <a:ext cx="4648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ttp://picasaweb.google.com/clroger/USABasketballTeamsThroughTheYear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ace R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752480"/>
            <a:ext cx="38862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ch country wanted to be the first to put a man into sp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SR succeeded in 1957 when Yuri Gagarin was the first man in spa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52880" y="4495680"/>
            <a:ext cx="38862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merican John Glenn was first man to orbit Ear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mericans Armstrong and Aldin were first men on mo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781680" y="1371600"/>
            <a:ext cx="1600200" cy="21337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181480" y="3505320"/>
            <a:ext cx="381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ttp://starchild.gsfc.nasa.gov/docs/StarChild/whos_who_level2/gagarin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52880" y="18288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uri Gagar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33520" y="3733920"/>
            <a:ext cx="1981080" cy="17175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57200" y="5867280"/>
            <a:ext cx="4114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ttp://spaceflight.nasa.gov/gallery/images/shuttle/sts-95/html/98_06862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43200" y="44956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ohn Glen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Importance of In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752480"/>
            <a:ext cx="388620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ying became very important in order to keep track of what each country knew about the other o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ies were trading information about atomic weap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876920" y="4572000"/>
            <a:ext cx="38862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nator Joseph McCarthy began his hunt for commun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used many actors and writers to lose jobs—McCarthyis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85800" y="3809880"/>
            <a:ext cx="1176480" cy="17528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133720" y="434340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oseph McCart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6172200"/>
            <a:ext cx="3733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6095880"/>
            <a:ext cx="46479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ttp://www.spartacus.schoolnet.co.uk/USAmccarthy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391520" y="1219320"/>
            <a:ext cx="1057320" cy="21859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724280" y="167652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Minox camera used by spies to photograph docu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0" y="3429000"/>
            <a:ext cx="4343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ttp://www.cnn.com/SPECIALS/cold.war/experience/spies/spy.gadgets/framese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Korean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1752480"/>
            <a:ext cx="388620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ar started in June, 1950 when North Korean troops invaded South Ko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September, 1950, the United Nations sent soldiers from sixteen countries to help South Ko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876920" y="4648320"/>
            <a:ext cx="38862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ase-fire was agreed on in 195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ar caused even more strained relations between Russia and Amer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4191120"/>
            <a:ext cx="3581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inese troops got involved in the war when the UN forces got too close to the Chinese bord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ident Truman wanted the war to end once the North Korean troops were pushed to the 3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paralle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724280" y="3352680"/>
            <a:ext cx="3886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ttp://www.history.army.mil/photos/Korea/kor1950/kor1950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1219320"/>
            <a:ext cx="243828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Cuban Missile Cri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1752480"/>
            <a:ext cx="38862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1962 a spy plane flew over Cuba and photographed the building of Soviet nuclear missile ba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ident Kennedy decided to block ships going to Cub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nnedy and Soviet Premier Khrushchev had a battle of words about the missile bases and the blockad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029200" y="4952880"/>
            <a:ext cx="38862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aders decided that US would not invade Cuba and USSR would remove the missile bases in Cub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uclear war was avoi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0" y="3657600"/>
            <a:ext cx="4343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ttp://www.whitehouse.gov/history/presidents/jk35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867280" y="1219320"/>
            <a:ext cx="1460520" cy="21859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28600" y="6095880"/>
            <a:ext cx="4343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ttp://www.cnn.com/SPECIALS/cold.war/kbank/profiles/khrushchev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1447920" y="4419720"/>
            <a:ext cx="1392120" cy="15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Vietnam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1219320"/>
            <a:ext cx="3886200" cy="23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ident Kennedy sent troops to Vietnam in 1962 to stop the spread of the North Vietnamese (Vietcong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1965 Congress gave President Johnson permission to step up the wa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hting was hard because the Vietcong didn’t wear uniform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952880" y="4114800"/>
            <a:ext cx="3733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9480" y="3809880"/>
            <a:ext cx="403884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1969 President Nixon promised to scale down the United State’s involvement in the wa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1973 the Paris Peace Agreement was signed that ended American’s participation in the wa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North Vietnamese troops took over South Vietnam and it became a communist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019920" y="1523880"/>
            <a:ext cx="2001600" cy="42674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724280" y="6095880"/>
            <a:ext cx="411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vietnampix.com/intro2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4T20:05:25Z</dcterms:created>
  <dc:creator> Wes and Sue Florence</dc:creator>
  <dc:description/>
  <dc:language>en-US</dc:language>
  <cp:lastModifiedBy> Wes and Sue Florence</cp:lastModifiedBy>
  <dcterms:modified xsi:type="dcterms:W3CDTF">2008-02-27T02:34:17Z</dcterms:modified>
  <cp:revision>26</cp:revision>
  <dc:subject/>
  <dc:title>The Cold War</dc:title>
</cp:coreProperties>
</file>